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31E6-29CA-47CD-9CC4-8D474DCC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FB2-BEBD-4095-A257-0963EAB5F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7E6-7865-453F-B44C-5D51EEC8C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7EB-45E1-40EF-B365-95610819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C58-6C92-46B2-8A45-95234F17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76D-84D3-42DC-92E4-4C08675A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322-271A-42C3-8318-C69D5E56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4413-08AC-42A7-92D0-C61721F1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C4E-3594-4746-9650-B4377CE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AF4C-45C7-4EDC-BBF5-CC2FC63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84BC-DF5C-45DE-BF5A-B96CFE3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C0E-020D-448C-A22D-F5DE111B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5CE6-5421-4B24-9AB9-7A9F86E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A6D-11DA-4E6F-A97F-92EBFCA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9D5-EB72-45E2-B4A8-5A031FAB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0BC4-C735-4543-92E6-D1F773C9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5D38-A182-4198-A616-11BE22E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B735-86D8-4890-BE87-D13F752E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AEA-E417-4A3B-856F-72EDA6DA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D9B0-62BE-4283-9204-DEEE0CEB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EB3-FF22-4DA5-93F4-C8F86D9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41C-A65B-4C3D-B797-A29EA1F1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DAA-669D-4E64-A4A5-568D1B7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DC8-C3CB-4457-A8FA-A9F30BA8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FE7-1D6F-4D45-BD8F-4A8BECE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C15-7A48-400F-9086-C722D92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72C-488D-4D25-8412-AF3C6AD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5C4-717C-45D8-9D27-C66319F5763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84D7-27FF-4454-9413-6ADD4185C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AE5-BFDF-4312-A43B-20F261E743D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86D-584D-462A-9972-39128D753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01720" y="2681280"/>
            <a:ext cx="83120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Training of Core Trai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CPG Management of  Diabetes In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  <a:ea typeface="Rockwell"/>
              </a:rPr>
              <a:t>Medical Nutrition Therap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Assoc. Prof. Dr. Barakatun Nisak Mohd Yus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Lecturer &amp; Dietit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Faculty of Medicine and Health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Universiti Putra Malay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4168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onclus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 txBox="1"/>
          <p:nvPr/>
        </p:nvSpPr>
        <p:spPr>
          <a:xfrm>
            <a:off x="267840" y="1163520"/>
            <a:ext cx="115714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MNT should be made for pregnant women with these condi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risk of G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-existing diab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diagnosis of G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initiation of insuli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tpartum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NT should be individualised according to nutritional needs and cultural prefer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total and rate of gestational weight gain (GW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A19-0D6D-439B-8AC6-7CC0F6947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ferenc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 txBox="1"/>
          <p:nvPr/>
        </p:nvSpPr>
        <p:spPr>
          <a:xfrm>
            <a:off x="223920" y="1163520"/>
            <a:ext cx="116157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14. “In pregnant women at risk for GDM, what is the effectiveness of MNT intervention by an RDN to prevent the development of GDM”. Academy of Nutrition and Dietetics. (Available at: https://www.andeal.org/topic. cfm?menu =5288&amp;cat=5698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18. Institute of Medicine. Weight gain during pregnancy: Reexamining the guidelines. Washington, DC: The National Academic Press,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41. Crowther CA, Hiller JE, Moss JR, et al.; Australian Carbohydrate Intolerance Study in Pregnant Women (ACHOIS) Trial Group. Effect of treatment of gestational diabetes mellitus on pregnancy outcomes. N Engl J Med. 2005;352(24):2477-248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82. Guo J, Chen JL, Whittemore R, et al. Postpartum Lifestyle Interventions to Prevent Type 2 Diabetes Among Women with History of Gestational Diabetes: A Systematic Review of Randomized Clinical Trials. J Womens Health (Larchmt). 2016;25(1):38-49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BBC-F5DC-4642-B1FF-AEA9BCD55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1b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Rockwell"/>
                <a:ea typeface="Rockwel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9359-7EF2-48DD-B3E7-3100E4549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ut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lecture, you will able to deter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ral to M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and rate weight 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NT for antenatal manag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NT for postpartu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F42-8D35-4B76-B2A9-935B20D40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ferral for M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 txBox="1"/>
          <p:nvPr/>
        </p:nvSpPr>
        <p:spPr>
          <a:xfrm>
            <a:off x="275760" y="126324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NT should be given to pregnant women with these cond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risk of G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existing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diagnosis of G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initiation of insuli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partum 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D66-F2A6-4900-B881-C54490031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commenda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212760" y="1282320"/>
            <a:ext cx="115711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Pregnant women at risk of gestational diabetes mellitus should be offered medical nutrition therapy which includes monitoring of gestational weight g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E563-495E-436D-8FB8-C1CF66927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85880" y="5184720"/>
            <a:ext cx="10604520" cy="91692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ocal setting, the BMI criteria for overweight is 23.0-27.4 kg/m</a:t>
            </a:r>
            <a:r>
              <a:rPr b="0" lang="en-MY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obesity is ≥27.5 kg/m</a:t>
            </a:r>
            <a:r>
              <a:rPr b="0" lang="en-MY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MY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re is no recommendations on total and rates of weight gain for local population. However, targeting GWG to the lower range in </a:t>
            </a:r>
            <a:r>
              <a:rPr b="1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y be recommended to improve pregnancy outcom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058760" y="334800"/>
            <a:ext cx="9782280" cy="47260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49D-76C0-4A7E-BF22-CBA68E741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MNT in Antenatal Manageme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NT provided by a dietitian, SMBG and insulin therapy are effective in reducing the rate of serious perinatal complications and tend to improve maternal qualit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Early nutrition intervention should be initiated at the time of diagno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diabetes should be given individualised medical nutrition therapy which includes carbohydrate-controlled meal plan and monitoring of gestational weight 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8B3-1903-4798-8EFD-6B56A10F8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arbohydrate-controlled Meal Pl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l macronutrients distribution for pregnant women with diabetes is not known. Macronutrient distribution should be individuali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 general recommendation to promote a balance diet of total energy requir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45-60% 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15-20%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25-35% f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341-0FE2-4EF7-B466-DB767447C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680" y="385560"/>
            <a:ext cx="11742840" cy="66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The component of carbohydrate-controlled meal plan inclu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monitor total CHO intake using grams, </a:t>
            </a:r>
            <a:r>
              <a:rPr b="1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exchange list</a:t>
            </a: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, household or hand measures as long as it is practical for women to comprehend and fol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distribute total CHO exchanges according to SMBG, lifestyle and med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choose appropriate type of CHO which is lower in </a:t>
            </a:r>
            <a:r>
              <a:rPr b="1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glycaemic index (G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count sucrose (e.g. sugars) intake as part of the total CHO intake (excess sucrose intake contributes to calories and may cause excessive GW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Non-nutritive sweeteners do not impact glycaemic level. However, it should not exceed the acceptable recommended daily inta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0" y="5511960"/>
            <a:ext cx="1219212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ffff"/>
                </a:solidFill>
                <a:latin typeface="Arial"/>
                <a:ea typeface="Arial"/>
              </a:rPr>
              <a:t>Refer to Appendix 3 on CHO food, exchange list and GI di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787-FE1A-45DA-8E41-B7C4B1DF2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MNT in Postpartum Management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ostpartum lifestyle intervention includes MNT, physical activity and behavioural mod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t has been shown to be effective in decreasing weight, reducing insulin resistance and T2DM development in women with history of GD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081B-D6F4-47EE-AD0D-FF24095EC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8-20T07:26:41Z</dcterms:modified>
  <cp:revision>89</cp:revision>
  <dc:subject/>
  <dc:title>PowerPoint Presentation</dc:title>
</cp:coreProperties>
</file>